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8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42C7-8EC9-4688-97B1-B51EDBD37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BAD5-7415-45C5-9EBE-BBD344410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7E7C-2E3D-4CCC-BC35-A49B14A98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859D-97D5-4C1D-B6F3-D9A44130F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9B3E-F991-4F7D-B2E2-839AC97A5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8B68-508D-4694-AA6E-75F106E1C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46D3-4C18-4B4B-836F-DE63DF932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687E-C965-4335-99EF-51F7F9ECF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7100-4A0B-4EF5-A3EA-9F9F20FDE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3A3A-677D-4967-82A7-B6DAC0D08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6E2B-9080-471B-9CBB-119246B14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5ED-139C-4957-A7F8-DC574FA93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90DE-B945-4CB7-A52B-241A13250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778B-1B9B-400C-8CB7-854F3BB59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BD77-1829-453D-AB45-ECA655CB3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BFAF-B81A-4FA9-B7E1-7142437E3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00E5-FB33-4D44-BA0C-58DFBE2C9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126F-1CC2-402E-84FD-BDE0FC3A4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AB48-6706-4FD8-A025-524032522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7151-0F62-4A3B-898D-CE53EEA3A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7C5-AF44-46F6-B63B-9F5B8C06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B7B-EBA3-407A-B74F-EB975684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C6C-83E3-4939-BC28-7FEF131A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A99-906B-4B95-A05A-4A5EB0CD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711-E904-440C-A645-FAB7987F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ED4-6D9E-4C77-BAF0-4A5A6709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D22-4DD8-44AF-AE85-37DD0BF0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A42-0796-4687-B227-E8DFE829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7F5-5836-4F4A-884F-500E6A63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A7D-E76A-4CEC-BC1D-6E0A86E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B11-E079-4A61-A9EE-5741867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775-B917-4CEE-AA14-9A9A03A3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B524-1627-4A63-8EA5-9A82EDCDB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National%20Curriculum.wm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Ecological%20Footprint.doc" TargetMode="External"/><Relationship Id="rId2" Type="http://schemas.openxmlformats.org/officeDocument/2006/relationships/hyperlink" Target="file:///Stage%204%20Math%2008.doc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16200000">
            <a:off x="-2552760" y="2857320"/>
            <a:ext cx="6400800" cy="1143000"/>
          </a:xfrm>
          <a:prstGeom prst="rect">
            <a:avLst/>
          </a:pr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alibri"/>
              </a:rPr>
              <a:t>National Curriculum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05320" y="5181120"/>
            <a:ext cx="5333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Challenging Possibilit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0456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stralian schooling promotes equity and excellence: promote personalised learning that aims to fulfill the diverse capabilities of each young Australi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young Australians bec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dent and creative individ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and informed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 Go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04920" y="14479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solid foundation</a:t>
            </a: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 in skills and knowledge on which further learning and adult life can be buil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Deep knowledge and skills</a:t>
            </a: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 enabling advanced learning, ability to create new ideas &amp; translate them into practical application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General capabilities</a:t>
            </a: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 that underpin flexible thinking, a </a:t>
            </a: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capacity to work with others</a:t>
            </a: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, an ability to move across subject disciplin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2f2f2"/>
                </a:solidFill>
                <a:latin typeface="Calibri"/>
              </a:rPr>
              <a:t>National Curriculum Expectation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4190760" cy="944640"/>
          </a:xfrm>
          <a:prstGeom prst="rect">
            <a:avLst/>
          </a:prstGeom>
          <a:gradFill rotWithShape="0">
            <a:gsLst>
              <a:gs pos="0">
                <a:srgbClr val="7d866b"/>
              </a:gs>
              <a:gs pos="100000">
                <a:srgbClr val="d8e7b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ges of Schoo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age 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typically involves students from 5 to 8 years of 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age 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typically involves students from 8 to 12 years of 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age 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typically involves students from 12 to 15 years of 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age 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typically involves students from 15 to 18 years of 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Picture3.jpg"/>
          <p:cNvPicPr/>
          <p:nvPr/>
        </p:nvPicPr>
        <p:blipFill>
          <a:blip r:embed="rId1"/>
          <a:stretch/>
        </p:blipFill>
        <p:spPr>
          <a:xfrm>
            <a:off x="4767120" y="0"/>
            <a:ext cx="4376880" cy="32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Picture1.jpg"/>
          <p:cNvPicPr/>
          <p:nvPr/>
        </p:nvPicPr>
        <p:blipFill>
          <a:blip r:embed="rId2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Title 1"/>
          <p:cNvGrpSpPr/>
          <p:nvPr/>
        </p:nvGrpSpPr>
        <p:grpSpPr>
          <a:xfrm>
            <a:off x="291960" y="262080"/>
            <a:ext cx="4292640" cy="817560"/>
            <a:chOff x="291960" y="262080"/>
            <a:chExt cx="4292640" cy="817560"/>
          </a:xfrm>
        </p:grpSpPr>
        <p:pic>
          <p:nvPicPr>
            <p:cNvPr id="106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62080"/>
              <a:ext cx="42926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04920" y="274680"/>
              <a:ext cx="4267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alibri"/>
                </a:rPr>
                <a:t>National Curriculum</a:t>
              </a:r>
              <a:endParaRPr b="0" lang="en-US" sz="3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304560" y="12193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arly Year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teracy and numer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ocial, emotional and physical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iddle &amp; Later Year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Increasing focus on disciplines within science, social science and human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pecialised areas of learning in later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Problem solving,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  synthesising, teamwork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  and being able to move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  across discipl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Karen Yager\My Documents\2009 authentic assessment\middle years\real world.jpg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868320"/>
          </a:xfrm>
          <a:prstGeom prst="rect">
            <a:avLst/>
          </a:prstGeom>
          <a:gradFill rotWithShape="0">
            <a:gsLst>
              <a:gs pos="0">
                <a:srgbClr val="717e8e"/>
              </a:gs>
              <a:gs pos="100000">
                <a:srgbClr val="c3d9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a G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1294920"/>
            <a:ext cx="4190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thematics Prim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olve and understand multiplication tables and understand fractions, placement of decimal points and identify geometric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cience Upper Primar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understand scientific concepts and principles, such as gravity and our solar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www.softlist.net/images/large-images/math_games_multiplication_education_mathematics-13866.jpeg"/>
          <p:cNvPicPr/>
          <p:nvPr/>
        </p:nvPicPr>
        <p:blipFill>
          <a:blip r:embed="rId1"/>
          <a:stretch/>
        </p:blipFill>
        <p:spPr>
          <a:xfrm>
            <a:off x="4673520" y="0"/>
            <a:ext cx="4470480" cy="35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ed.gov/offices/OERI/ORAD/KAD/expert_panel/2mathgr.gif"/>
          <p:cNvPicPr/>
          <p:nvPr/>
        </p:nvPicPr>
        <p:blipFill>
          <a:blip r:embed="rId2"/>
          <a:stretch/>
        </p:blipFill>
        <p:spPr>
          <a:xfrm>
            <a:off x="4714920" y="3505320"/>
            <a:ext cx="4429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4190760" cy="868320"/>
          </a:xfrm>
          <a:prstGeom prst="rect">
            <a:avLst/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a G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560" y="1294920"/>
            <a:ext cx="4190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story Primary and Second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well-formed knowledge of our history and culture, and our cultural d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story Secondary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now both factual history, but also have an ability to apply critical analysis to solve problems and have a systemic understanding of Australian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oph.gov.au/image/1/370/0/1/farm4.static.flickr.com/3288/2654992018_6d9d4d8d9d_o.jpg"/>
          <p:cNvPicPr/>
          <p:nvPr/>
        </p:nvPicPr>
        <p:blipFill>
          <a:blip r:embed="rId1"/>
          <a:stretch/>
        </p:blipFill>
        <p:spPr>
          <a:xfrm>
            <a:off x="4700520" y="0"/>
            <a:ext cx="444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11480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a G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lish Primary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stand basic grammar including the use of a full stop in a sentence and meet consistent spelling competency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glish Secondar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a consistent recommended reading list of Australian literature and the clas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i38.tinypic.com/1zgxi54.jpg"/>
          <p:cNvPicPr/>
          <p:nvPr/>
        </p:nvPicPr>
        <p:blipFill>
          <a:blip r:embed="rId2"/>
          <a:stretch/>
        </p:blipFill>
        <p:spPr>
          <a:xfrm>
            <a:off x="4626000" y="0"/>
            <a:ext cx="45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426708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Y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1430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motivation and engagement in these years is cri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ing on student engagement and converting this into learning can have a significant impact on student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transitions between primary and secondary schools are an important aspect of ensuring student eng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610x.jpg"/>
          <p:cNvPicPr/>
          <p:nvPr/>
        </p:nvPicPr>
        <p:blipFill>
          <a:blip r:embed="rId2"/>
          <a:stretch/>
        </p:blipFill>
        <p:spPr>
          <a:xfrm>
            <a:off x="4737240" y="0"/>
            <a:ext cx="4406760" cy="3200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ts.jpg"/>
          <p:cNvPicPr/>
          <p:nvPr/>
        </p:nvPicPr>
        <p:blipFill>
          <a:blip r:embed="rId3"/>
          <a:stretch/>
        </p:blipFill>
        <p:spPr>
          <a:xfrm>
            <a:off x="4761000" y="3200400"/>
            <a:ext cx="4383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4267080" cy="715680"/>
          </a:xfrm>
          <a:prstGeom prst="rect">
            <a:avLst/>
          </a:prstGeom>
          <a:gradFill rotWithShape="0">
            <a:gsLst>
              <a:gs pos="0">
                <a:srgbClr val="967b65"/>
              </a:gs>
              <a:gs pos="100000">
                <a:srgbClr val="ffd4b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neration 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1430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orn into a digital world and now hitting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st information-intensive generation of all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ubble-wrap men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ents stressing work ethic, etiquette, resilience, fortitude and taking responsibility for one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generation of highly educated, technologically savvy, innovative thin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greater social conscience and notion of fair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Value speed over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oers and the fix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digital kids.bmp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327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artoon102.jpg"/>
          <p:cNvPicPr/>
          <p:nvPr/>
        </p:nvPicPr>
        <p:blipFill>
          <a:blip r:embed="rId2"/>
          <a:stretch/>
        </p:blipFill>
        <p:spPr>
          <a:xfrm>
            <a:off x="4784760" y="3200400"/>
            <a:ext cx="4359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Title 1"/>
          <p:cNvGrpSpPr/>
          <p:nvPr/>
        </p:nvGrpSpPr>
        <p:grpSpPr>
          <a:xfrm>
            <a:off x="291960" y="262080"/>
            <a:ext cx="4219560" cy="896760"/>
            <a:chOff x="291960" y="262080"/>
            <a:chExt cx="4219560" cy="896760"/>
          </a:xfrm>
        </p:grpSpPr>
        <p:pic>
          <p:nvPicPr>
            <p:cNvPr id="129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62080"/>
              <a:ext cx="421956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04920" y="274680"/>
              <a:ext cx="41907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ross-Disciplinary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304560" y="129492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Recognition that new ways of thinking are borne out of deep knowledge &amp; its application across disciplin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tudents should participate in learning that applies specific discipline-based knowledge and skills across disciplines to encourage thinking and working in new way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Cross-Disciplinary: ICT &amp; Design, Civics &amp; Citizenship, Bus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ygeneration.jpg"/>
          <p:cNvPicPr/>
          <p:nvPr/>
        </p:nvPicPr>
        <p:blipFill>
          <a:blip r:embed="rId2"/>
          <a:stretch/>
        </p:blipFill>
        <p:spPr>
          <a:xfrm>
            <a:off x="4683240" y="0"/>
            <a:ext cx="4460760" cy="4038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mum computer.bmp"/>
          <p:cNvPicPr/>
          <p:nvPr/>
        </p:nvPicPr>
        <p:blipFill>
          <a:blip r:embed="rId3"/>
          <a:stretch/>
        </p:blipFill>
        <p:spPr>
          <a:xfrm>
            <a:off x="5000760" y="4038480"/>
            <a:ext cx="4143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94464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Globalisation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60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Globalisation is shaping curriculu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ew skills: collaboration, creativity, innovation and technology savvy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Global environ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formation 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ise of India, China and Korea – Asia liter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240"/>
          <p:cNvGrpSpPr/>
          <p:nvPr/>
        </p:nvGrpSpPr>
        <p:grpSpPr>
          <a:xfrm>
            <a:off x="5029200" y="104760"/>
            <a:ext cx="3961800" cy="6752160"/>
            <a:chOff x="5029200" y="104760"/>
            <a:chExt cx="3961800" cy="6752160"/>
          </a:xfrm>
        </p:grpSpPr>
        <p:pic>
          <p:nvPicPr>
            <p:cNvPr id="53" name="Picture 28" descr="employer"/>
            <p:cNvPicPr/>
            <p:nvPr/>
          </p:nvPicPr>
          <p:blipFill>
            <a:blip r:embed="rId1"/>
            <a:stretch/>
          </p:blipFill>
          <p:spPr>
            <a:xfrm>
              <a:off x="5571000" y="104760"/>
              <a:ext cx="3404160" cy="231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Group 221"/>
            <p:cNvGrpSpPr/>
            <p:nvPr/>
          </p:nvGrpSpPr>
          <p:grpSpPr>
            <a:xfrm>
              <a:off x="5029200" y="2396520"/>
              <a:ext cx="3961800" cy="4460400"/>
              <a:chOff x="5029200" y="2396520"/>
              <a:chExt cx="3961800" cy="4460400"/>
            </a:xfrm>
          </p:grpSpPr>
          <p:sp>
            <p:nvSpPr>
              <p:cNvPr id="55" name="Rectangle 66"/>
              <p:cNvSpPr/>
              <p:nvPr/>
            </p:nvSpPr>
            <p:spPr>
              <a:xfrm rot="16200000">
                <a:off x="5083560" y="2947320"/>
                <a:ext cx="4404960" cy="3409920"/>
              </a:xfrm>
              <a:prstGeom prst="rect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70"/>
              <p:cNvSpPr/>
              <p:nvPr/>
            </p:nvSpPr>
            <p:spPr>
              <a:xfrm rot="5400000">
                <a:off x="6981840" y="1698120"/>
                <a:ext cx="567360" cy="33735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 anchorCtr="1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71"/>
              <p:cNvSpPr/>
              <p:nvPr/>
            </p:nvSpPr>
            <p:spPr>
              <a:xfrm rot="16200000">
                <a:off x="6854760" y="1126800"/>
                <a:ext cx="862560" cy="3409920"/>
              </a:xfrm>
              <a:prstGeom prst="rect">
                <a:avLst/>
              </a:prstGeom>
              <a:solidFill>
                <a:srgbClr val="0183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Text Box 72"/>
              <p:cNvSpPr/>
              <p:nvPr/>
            </p:nvSpPr>
            <p:spPr>
              <a:xfrm>
                <a:off x="5621040" y="2627280"/>
                <a:ext cx="33476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Calibri"/>
                  </a:rPr>
                  <a:t>The Economy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Rectangle 217"/>
              <p:cNvSpPr/>
              <p:nvPr/>
            </p:nvSpPr>
            <p:spPr>
              <a:xfrm>
                <a:off x="5657040" y="3738960"/>
                <a:ext cx="3271680" cy="1072440"/>
              </a:xfrm>
              <a:prstGeom prst="rect">
                <a:avLst/>
              </a:prstGeom>
              <a:solidFill>
                <a:srgbClr val="014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Rectangle 73"/>
              <p:cNvSpPr/>
              <p:nvPr/>
            </p:nvSpPr>
            <p:spPr>
              <a:xfrm>
                <a:off x="5771160" y="3907080"/>
                <a:ext cx="3043800" cy="82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4320"/>
                    <a:tab algn="l" pos="1628640"/>
                    <a:tab algn="l" pos="2443320"/>
                    <a:tab algn="l" pos="3257640"/>
                    <a:tab algn="l" pos="4071960"/>
                    <a:tab algn="l" pos="4886280"/>
                    <a:tab algn="l" pos="5700600"/>
                    <a:tab algn="l" pos="6515280"/>
                    <a:tab algn="l" pos="7329600"/>
                    <a:tab algn="l" pos="8143920"/>
                    <a:tab algn="l" pos="8958240"/>
                    <a:tab algn="l" pos="9772560"/>
                    <a:tab algn="l" pos="1058688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Demands New 21st Century Skills: Creativity, Innovation, Technology, Collabor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219"/>
              <p:cNvSpPr/>
              <p:nvPr/>
            </p:nvSpPr>
            <p:spPr>
              <a:xfrm>
                <a:off x="5657040" y="5418000"/>
                <a:ext cx="3271680" cy="1071720"/>
              </a:xfrm>
              <a:prstGeom prst="rect">
                <a:avLst/>
              </a:prstGeom>
              <a:solidFill>
                <a:srgbClr val="014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Rectangle 75"/>
              <p:cNvSpPr/>
              <p:nvPr/>
            </p:nvSpPr>
            <p:spPr>
              <a:xfrm>
                <a:off x="5787000" y="5583600"/>
                <a:ext cx="301176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814320"/>
                    <a:tab algn="l" pos="1628640"/>
                    <a:tab algn="l" pos="2443320"/>
                    <a:tab algn="l" pos="3257640"/>
                    <a:tab algn="l" pos="4071960"/>
                    <a:tab algn="l" pos="4886280"/>
                    <a:tab algn="l" pos="5700600"/>
                    <a:tab algn="l" pos="6515280"/>
                    <a:tab algn="l" pos="7329600"/>
                    <a:tab algn="l" pos="8143920"/>
                    <a:tab algn="l" pos="8958240"/>
                    <a:tab algn="l" pos="9772560"/>
                    <a:tab algn="l" pos="1058688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Demands Strong Basic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" name="Group 208"/>
              <p:cNvGrpSpPr/>
              <p:nvPr/>
            </p:nvGrpSpPr>
            <p:grpSpPr>
              <a:xfrm>
                <a:off x="5029200" y="2396520"/>
                <a:ext cx="547200" cy="4460400"/>
                <a:chOff x="5029200" y="2396520"/>
                <a:chExt cx="547200" cy="4460400"/>
              </a:xfrm>
            </p:grpSpPr>
            <p:sp>
              <p:nvSpPr>
                <p:cNvPr id="64" name="AutoShape 206"/>
                <p:cNvSpPr/>
                <p:nvPr/>
              </p:nvSpPr>
              <p:spPr>
                <a:xfrm flipH="1" rot="5400000">
                  <a:off x="3070440" y="4354920"/>
                  <a:ext cx="4460400" cy="54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d55"/>
                    </a:gs>
                    <a:gs pos="100000">
                      <a:srgbClr val="0183b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Line 207"/>
                <p:cNvSpPr/>
                <p:nvPr/>
              </p:nvSpPr>
              <p:spPr>
                <a:xfrm>
                  <a:off x="5576400" y="2404800"/>
                  <a:ext cx="0" cy="4445640"/>
                </a:xfrm>
                <a:prstGeom prst="line">
                  <a:avLst/>
                </a:prstGeom>
                <a:ln w="9360">
                  <a:solidFill>
                    <a:srgbClr val="015f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267080" cy="114300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llenging Possibi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ntegrated stage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3 &amp; 4 authentic assessment tas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 Middle Years’ ICT project such as Digital Narra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oject-based learni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eer tutor Naplan project” years 5 and 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Global Citizenship project such as </a:t>
            </a:r>
            <a:r>
              <a:rPr b="0" lang="en-US" sz="2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urfAi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Content Placeholder 6" descr="whiteboard.jpg"/>
          <p:cNvPicPr/>
          <p:nvPr/>
        </p:nvPicPr>
        <p:blipFill>
          <a:blip r:embed="rId3"/>
          <a:stretch/>
        </p:blipFill>
        <p:spPr>
          <a:xfrm>
            <a:off x="4659480" y="0"/>
            <a:ext cx="448452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R_footprint_1008.jpg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944640"/>
          </a:xfrm>
          <a:prstGeom prst="rect">
            <a:avLst/>
          </a:prstGeom>
          <a:gradFill rotWithShape="0">
            <a:gsLst>
              <a:gs pos="0">
                <a:srgbClr val="b0cffb"/>
              </a:gs>
              <a:gs pos="100000">
                <a:srgbClr val="e6effd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Century Educatio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24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ducation is crucial for future economic prosper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Young people need the right skills to operate in an information-rich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ducation is critical to both understand &amp; address emerging environmental challeng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undo%20y%20computer.jpg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Title 1"/>
          <p:cNvGrpSpPr/>
          <p:nvPr/>
        </p:nvGrpSpPr>
        <p:grpSpPr>
          <a:xfrm>
            <a:off x="291960" y="262080"/>
            <a:ext cx="4372200" cy="969840"/>
            <a:chOff x="291960" y="262080"/>
            <a:chExt cx="4372200" cy="969840"/>
          </a:xfrm>
        </p:grpSpPr>
        <p:pic>
          <p:nvPicPr>
            <p:cNvPr id="70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62080"/>
              <a:ext cx="43722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04920" y="274680"/>
              <a:ext cx="4343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en-US" sz="3300" spc="-1" strike="noStrike" baseline="30000">
                  <a:solidFill>
                    <a:srgbClr val="000000"/>
                  </a:solidFill>
                  <a:latin typeface="Calibri"/>
                </a:rPr>
                <a:t>st</a:t>
              </a:r>
              <a:r>
                <a:rPr b="1" lang="en-US" sz="3300" spc="-1" strike="noStrike">
                  <a:solidFill>
                    <a:srgbClr val="000000"/>
                  </a:solidFill>
                  <a:latin typeface="Calibri"/>
                </a:rPr>
                <a:t> Century Education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2282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ducation to promote social cohe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ducation to be a key driver for delivering equality of opport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ducation to enhance spiritual, moral, cultural, &amp; physic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MotherTheresa.jpg"/>
          <p:cNvPicPr/>
          <p:nvPr/>
        </p:nvPicPr>
        <p:blipFill>
          <a:blip r:embed="rId2"/>
          <a:stretch/>
        </p:blipFill>
        <p:spPr>
          <a:xfrm>
            <a:off x="4782960" y="0"/>
            <a:ext cx="436104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reach_for_the_stars_detail.jpg"/>
          <p:cNvPicPr/>
          <p:nvPr/>
        </p:nvPicPr>
        <p:blipFill>
          <a:blip r:embed="rId3"/>
          <a:stretch/>
        </p:blipFill>
        <p:spPr>
          <a:xfrm>
            <a:off x="4800600" y="320040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Title 1"/>
          <p:cNvGrpSpPr/>
          <p:nvPr/>
        </p:nvGrpSpPr>
        <p:grpSpPr>
          <a:xfrm>
            <a:off x="291960" y="262080"/>
            <a:ext cx="3835440" cy="969840"/>
            <a:chOff x="291960" y="262080"/>
            <a:chExt cx="3835440" cy="969840"/>
          </a:xfrm>
        </p:grpSpPr>
        <p:pic>
          <p:nvPicPr>
            <p:cNvPr id="76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62080"/>
              <a:ext cx="38354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4920" y="274680"/>
              <a:ext cx="3809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Global Demand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380880" y="13712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5000"/>
              </a:lnSpc>
              <a:spcBef>
                <a:spcPts val="193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kills Required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5000"/>
              </a:lnSpc>
              <a:spcBef>
                <a:spcPts val="7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r the 2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Century Workforce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itical thinking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roblem solving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novation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C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global.jp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Kids.jpg"/>
          <p:cNvPicPr/>
          <p:nvPr/>
        </p:nvPicPr>
        <p:blipFill>
          <a:blip r:embed="rId3"/>
          <a:stretch/>
        </p:blipFill>
        <p:spPr>
          <a:xfrm>
            <a:off x="4243320" y="3809880"/>
            <a:ext cx="4900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Title 1"/>
          <p:cNvGrpSpPr/>
          <p:nvPr/>
        </p:nvGrpSpPr>
        <p:grpSpPr>
          <a:xfrm>
            <a:off x="219240" y="262080"/>
            <a:ext cx="4140000" cy="1201680"/>
            <a:chOff x="219240" y="262080"/>
            <a:chExt cx="4140000" cy="1201680"/>
          </a:xfrm>
        </p:grpSpPr>
        <p:pic>
          <p:nvPicPr>
            <p:cNvPr id="82" name="Title 1" descr=""/>
            <p:cNvPicPr/>
            <p:nvPr/>
          </p:nvPicPr>
          <p:blipFill>
            <a:blip r:embed="rId1"/>
            <a:stretch/>
          </p:blipFill>
          <p:spPr>
            <a:xfrm>
              <a:off x="219240" y="262080"/>
              <a:ext cx="41400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28600" y="274680"/>
              <a:ext cx="411480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Calibri"/>
                </a:rPr>
                <a:t>Gardner’s Minds </a:t>
              </a:r>
              <a:br>
                <a:rPr sz="3500"/>
              </a:br>
              <a:r>
                <a:rPr b="1" lang="en-US" sz="3500" spc="-1" strike="noStrike">
                  <a:solidFill>
                    <a:srgbClr val="000000"/>
                  </a:solidFill>
                  <a:latin typeface="Calibri"/>
                </a:rPr>
                <a:t>for the Future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2286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Discipline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reativ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ynthesisin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Ethica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spectfu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earth-and-hands1.jpg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ll students in Australian schools should have access to a broad and comprehensive curriculum that details the knowledge, understandings, skills and values to be achieved and provides a basis for the attainment of high standards of achievement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duces content pressure: depth not breadt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reater flexibility for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alues participation, progression, independent qua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s sections on enterprise, citizenship,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pports personalisation of learning path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ets international operating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Developing </a:t>
            </a: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nationally consistent curricula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ts core standards and achievement stand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rovides flexibility for jurisdictions and school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stablishes standards as a basis for national tes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roadens options for stud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nsures achievement reported on same scale national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9:28:02Z</dcterms:created>
  <dc:creator>Karen Yager</dc:creator>
  <dc:description/>
  <dc:language>en-US</dc:language>
  <cp:lastModifiedBy>Karen Yager</cp:lastModifiedBy>
  <dcterms:modified xsi:type="dcterms:W3CDTF">2009-04-27T11:39:27Z</dcterms:modified>
  <cp:revision>70</cp:revision>
  <dc:subject/>
  <dc:title>Slide 1</dc:title>
</cp:coreProperties>
</file>